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B09-DCCD-43AE-8BF6-042CA00C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9FF-36DB-4A60-AD5F-6AADEF2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3CD-7BF3-49ED-BEAF-AFDE7CDA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C19-EDD9-4261-B613-44F8D00F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D98-9A43-4734-A50D-7E7F7218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696-C181-4A30-B676-426E65B8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155-10BC-4157-9226-85A4B0FB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70D-7191-4F4A-86C8-52E84674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E46-9B97-42B8-9F66-14E3EC01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140-09F8-4D51-8AB8-A27EEE1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93C-DCD7-4FE8-A50E-7D02A981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DDA-B120-4F18-9AA3-E73FF509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1628-FFF5-4854-B21C-A8C27814C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ВАСИЛЬ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ВАСИЛЬЕВСКОЕ СЕЛЬСКОЕ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решению Совета народных депутатов Васильевского 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 28.12.2023г. № 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Васильевского  сельского  поселения на 2023 год и на плановый период 2024 и 2025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28880" y="928800"/>
          <a:ext cx="5194080" cy="254772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749520"/>
                <a:gridCol w="62208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2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9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9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9" descr=""/>
          <p:cNvPicPr/>
          <p:nvPr/>
        </p:nvPicPr>
        <p:blipFill>
          <a:blip r:embed="rId2"/>
          <a:stretch/>
        </p:blipFill>
        <p:spPr>
          <a:xfrm>
            <a:off x="1352520" y="3565440"/>
            <a:ext cx="7158240" cy="31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9" descr=""/>
          <p:cNvPicPr/>
          <p:nvPr/>
        </p:nvPicPr>
        <p:blipFill>
          <a:blip r:embed="rId3"/>
          <a:stretch/>
        </p:blipFill>
        <p:spPr>
          <a:xfrm>
            <a:off x="353880" y="4206960"/>
            <a:ext cx="8508960" cy="25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Васильев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87156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 Васильев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Глава администрации Васильевского по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Аннинского муниципального райо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Пущин Виктор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05 с. Васильевка ул. Советская дом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инск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-47346-5-66-67,8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i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n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894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Бюджет Васильевского поселения на 2023 год и на плановый период 2024 и 2025 годов сформирован в программном формате. Всего на данный момент в Васильев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Развитие Васильевского сельского поселения и управление финансами в поселен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Василье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Васильевское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7" descr=""/>
          <p:cNvPicPr/>
          <p:nvPr/>
        </p:nvPicPr>
        <p:blipFill>
          <a:blip r:embed="rId2"/>
          <a:stretch/>
        </p:blipFill>
        <p:spPr>
          <a:xfrm>
            <a:off x="420840" y="2779560"/>
            <a:ext cx="8302320" cy="3969000"/>
          </a:xfrm>
          <a:prstGeom prst="rect">
            <a:avLst/>
          </a:prstGeom>
          <a:ln w="0">
            <a:noFill/>
          </a:ln>
        </p:spPr>
      </p:pic>
      <p:sp>
        <p:nvSpPr>
          <p:cNvPr id="112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934920"/>
          <a:ext cx="8215200" cy="149400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4395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77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6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02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4396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09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6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02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3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71680" y="3571920"/>
          <a:ext cx="7929360" cy="3143160"/>
        </p:xfrm>
        <a:graphic>
          <a:graphicData uri="http://schemas.openxmlformats.org/drawingml/2006/table">
            <a:tbl>
              <a:tblPr/>
              <a:tblGrid>
                <a:gridCol w="4071600"/>
                <a:gridCol w="1928880"/>
                <a:gridCol w="1928880"/>
              </a:tblGrid>
              <a:tr h="176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3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2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2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67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73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7" descr=""/>
          <p:cNvPicPr/>
          <p:nvPr/>
        </p:nvPicPr>
        <p:blipFill>
          <a:blip r:embed="rId2"/>
          <a:stretch/>
        </p:blipFill>
        <p:spPr>
          <a:xfrm>
            <a:off x="353880" y="706320"/>
            <a:ext cx="8618760" cy="597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4</cp:lastModifiedBy>
  <dcterms:modified xsi:type="dcterms:W3CDTF">2024-06-17T06:43:34Z</dcterms:modified>
  <cp:revision>65</cp:revision>
  <dc:subject/>
  <dc:title>Слайд 1</dc:title>
</cp:coreProperties>
</file>