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FC2-5C0D-4220-BCB8-F01D5F9E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1E6-43DD-4358-A1FD-14265CAA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95E-FAD7-41C2-8CED-A99EB88C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39C-EAAA-4EED-A4FB-83014E1E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BAF-EAA1-46F9-8805-A4AD1A99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907-AADA-4CE7-98BE-CE28B23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130-F8FA-4926-9D0C-1929C5EC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BF4-2659-433C-AB48-9E7D6EE1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0B1-8CA3-47BF-A445-C8AA10D8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047-494D-497C-BFDE-94111A8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0B4-2AE7-4E93-81AC-CF8FCFB8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9C9-46F3-403A-904F-DE7A9A5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73FA-334E-4D7A-9609-D9738CC2E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ВАСИЛЬ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ВАСИЛЬЕВСКОЕ СЕЛЬ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решению Совета народных депутатов Васильевского 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 28.12.2023г. №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Васильевского  сельского  поселения на 2024 год и на плановый период 2025 и 2026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28880" y="92880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749520"/>
                <a:gridCol w="62208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9" descr=""/>
          <p:cNvPicPr/>
          <p:nvPr/>
        </p:nvPicPr>
        <p:blipFill>
          <a:blip r:embed="rId2"/>
          <a:stretch/>
        </p:blipFill>
        <p:spPr>
          <a:xfrm>
            <a:off x="1352520" y="3565440"/>
            <a:ext cx="7158240" cy="31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9" descr=""/>
          <p:cNvPicPr/>
          <p:nvPr/>
        </p:nvPicPr>
        <p:blipFill>
          <a:blip r:embed="rId3"/>
          <a:stretch/>
        </p:blipFill>
        <p:spPr>
          <a:xfrm>
            <a:off x="353880" y="4206960"/>
            <a:ext cx="8508960" cy="25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Васильев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8715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 Васильев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Глава администрации Васильевского по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Аннинского муниципального райо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Пущин Виктор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05 с. Васильевка ул. Советская дом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инск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-47346-5-66-67,8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i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n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894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Васильевского поселения на 2024 год и на плановый период 2025 и 2026 годов сформирован в программном формате. Всего на данный момент в Васильев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Развитие Васильевского сельского поселения и управление финансами в поселен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Василье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Васильевское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7" descr=""/>
          <p:cNvPicPr/>
          <p:nvPr/>
        </p:nvPicPr>
        <p:blipFill>
          <a:blip r:embed="rId2"/>
          <a:stretch/>
        </p:blipFill>
        <p:spPr>
          <a:xfrm>
            <a:off x="420840" y="2779560"/>
            <a:ext cx="8302320" cy="3969000"/>
          </a:xfrm>
          <a:prstGeom prst="rect">
            <a:avLst/>
          </a:prstGeom>
          <a:ln w="0">
            <a:noFill/>
          </a:ln>
        </p:spPr>
      </p:pic>
      <p:sp>
        <p:nvSpPr>
          <p:cNvPr id="112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934920"/>
          <a:ext cx="8215200" cy="149400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77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74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17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2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09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74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17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2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3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71680" y="3571920"/>
          <a:ext cx="7929360" cy="3143160"/>
        </p:xfrm>
        <a:graphic>
          <a:graphicData uri="http://schemas.openxmlformats.org/drawingml/2006/table">
            <a:tbl>
              <a:tblPr/>
              <a:tblGrid>
                <a:gridCol w="407160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7" descr=""/>
          <p:cNvPicPr/>
          <p:nvPr/>
        </p:nvPicPr>
        <p:blipFill>
          <a:blip r:embed="rId2"/>
          <a:stretch/>
        </p:blipFill>
        <p:spPr>
          <a:xfrm>
            <a:off x="353880" y="706320"/>
            <a:ext cx="8618760" cy="597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4</cp:lastModifiedBy>
  <dcterms:modified xsi:type="dcterms:W3CDTF">2024-03-07T08:06:33Z</dcterms:modified>
  <cp:revision>59</cp:revision>
  <dc:subject/>
  <dc:title>Слайд 1</dc:title>
</cp:coreProperties>
</file>