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6BD-812E-45FD-B2F6-A4ACDA6C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D4A-1474-4F02-AE34-74D3F2F0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3E4-7C8F-4D7B-A778-25B732E1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DB4-644B-42B3-B75E-1430A50A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478-C43A-4252-8D87-8349AD0D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B21-110E-4404-8F8F-305E7CA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65A-C910-4C25-A4CE-42CB1B7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25F-CE27-405C-9FD7-112863F9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A86-B2AD-4DC2-9F27-15B77EAA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273-CB0E-4942-A001-5F99D0B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4F4-81A3-4E07-BA31-5ECD9B8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C03-E28E-44C6-9BC9-CA3CA2A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AEF-CFF2-41B7-A8C7-4200C997C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ВАСИЛЬ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АСИЛЬЕВ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роекту  решения Совета народных депутатов Васильевского 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Васильевского  сельского  поселения на 2025 год и на плановый период 2026 и 2027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28880" y="80028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71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62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2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8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9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6" name="Диаграмма 9" descr=""/>
          <p:cNvPicPr/>
          <p:nvPr/>
        </p:nvPicPr>
        <p:blipFill>
          <a:blip r:embed="rId2"/>
          <a:stretch/>
        </p:blipFill>
        <p:spPr>
          <a:xfrm>
            <a:off x="1352520" y="3425760"/>
            <a:ext cx="6438960" cy="329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Диаграмма 9" descr=""/>
          <p:cNvPicPr/>
          <p:nvPr/>
        </p:nvPicPr>
        <p:blipFill>
          <a:blip r:embed="rId3"/>
          <a:stretch/>
        </p:blipFill>
        <p:spPr>
          <a:xfrm>
            <a:off x="493560" y="4065480"/>
            <a:ext cx="805356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Васильев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2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 Васильев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142920" y="1071720"/>
            <a:ext cx="8715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Глава администрации Васильевского по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Пущин Виктор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05 с. Васильевка ул. Советская дом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-47346-5-66-67,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i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894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Васильевского поселения на 2025 год и на плановый период 2026 и 2027 годов сформирован в программном формате. Всего на данный момент в Васильев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Развитие Васильевского сельского поселения и управление финансами в поселен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Василь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Васильевское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0040" y="934920"/>
          <a:ext cx="8215200" cy="14940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1 1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0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35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0 7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0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35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4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Полилиния: фигура 7"/>
          <p:cNvSpPr/>
          <p:nvPr/>
        </p:nvSpPr>
        <p:spPr>
          <a:xfrm>
            <a:off x="-2143080" y="292896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Диаграмма 16" descr=""/>
          <p:cNvPicPr/>
          <p:nvPr/>
        </p:nvPicPr>
        <p:blipFill>
          <a:blip r:embed="rId2"/>
          <a:stretch/>
        </p:blipFill>
        <p:spPr>
          <a:xfrm>
            <a:off x="420840" y="2567160"/>
            <a:ext cx="8229600" cy="4082760"/>
          </a:xfrm>
          <a:prstGeom prst="rect">
            <a:avLst/>
          </a:prstGeom>
          <a:ln w="0">
            <a:noFill/>
          </a:ln>
        </p:spPr>
      </p:pic>
      <p:sp>
        <p:nvSpPr>
          <p:cNvPr id="114" name="Полилиния: фигура 7"/>
          <p:cNvSpPr/>
          <p:nvPr/>
        </p:nvSpPr>
        <p:spPr>
          <a:xfrm>
            <a:off x="-2428920" y="4500720"/>
            <a:ext cx="1714680" cy="78552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лилиния: фигура 11"/>
          <p:cNvSpPr/>
          <p:nvPr/>
        </p:nvSpPr>
        <p:spPr>
          <a:xfrm>
            <a:off x="23572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: фигура 11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71680" y="3571920"/>
          <a:ext cx="7929360" cy="3143160"/>
        </p:xfrm>
        <a:graphic>
          <a:graphicData uri="http://schemas.openxmlformats.org/drawingml/2006/table">
            <a:tbl>
              <a:tblPr/>
              <a:tblGrid>
                <a:gridCol w="407160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7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0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Диаграмма 6" descr=""/>
          <p:cNvPicPr/>
          <p:nvPr/>
        </p:nvPicPr>
        <p:blipFill>
          <a:blip r:embed="rId2"/>
          <a:stretch/>
        </p:blipFill>
        <p:spPr>
          <a:xfrm>
            <a:off x="566640" y="853920"/>
            <a:ext cx="7944120" cy="579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11-27T06:51:01Z</dcterms:modified>
  <cp:revision>66</cp:revision>
  <dc:subject/>
  <dc:title>Слайд 1</dc:title>
</cp:coreProperties>
</file>