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45D-D95C-4604-BA77-27D4D8BC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7AA-716E-468F-B32C-DEFDD029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631-3FF3-4F8D-A1F5-0B745EF4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C36-AB4F-4293-A12E-60647001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5D0-89E9-47E9-B734-3C528BB0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960-9171-4BD4-A057-0D8AC49F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669-F5D8-4659-9E7E-12199D4F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FA3-48B2-4AB3-8F49-3D911A78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B8B-DCDE-4C03-A98A-F739F5BD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DC9-ABA6-42F7-B07C-58B0119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340-473E-460C-A0BD-83F390CE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2EF-4F68-4594-8F76-924C97E3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2E33-EEA1-4526-A473-BEE03EF43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ВАСИЛЬЕВСКОГО СЕЛЬСКОГО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70172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ВАСИЛЬЕВ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Васильев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Васильевского поселения в 2023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00120" y="1357200"/>
          <a:ext cx="6096240" cy="2722680"/>
        </p:xfrm>
        <a:graphic>
          <a:graphicData uri="http://schemas.openxmlformats.org/drawingml/2006/table">
            <a:tbl>
              <a:tblPr/>
              <a:tblGrid>
                <a:gridCol w="538200"/>
                <a:gridCol w="2841480"/>
                <a:gridCol w="1065240"/>
                <a:gridCol w="1032120"/>
                <a:gridCol w="619200"/>
              </a:tblGrid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0312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31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точненный план, 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сполнено, тыс.руб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48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ВСЕ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9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9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92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2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3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9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8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8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14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Васильевского пос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Диаграмма 7" descr=""/>
          <p:cNvPicPr/>
          <p:nvPr/>
        </p:nvPicPr>
        <p:blipFill>
          <a:blip r:embed="rId2"/>
          <a:stretch/>
        </p:blipFill>
        <p:spPr>
          <a:xfrm>
            <a:off x="281160" y="1066680"/>
            <a:ext cx="8551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9" descr=""/>
          <p:cNvPicPr/>
          <p:nvPr/>
        </p:nvPicPr>
        <p:blipFill>
          <a:blip r:embed="rId3"/>
          <a:stretch/>
        </p:blipFill>
        <p:spPr>
          <a:xfrm>
            <a:off x="781200" y="3565440"/>
            <a:ext cx="76564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571680" y="1720800"/>
            <a:ext cx="81435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Васильевского сельского поселения за 2023 год дефицитный (расходы превысили доходы на 317,1 тыс.руб.). Денежные средства на  покрытие дефицита взяты с остатков средств  бюджета на начало 01.01.2023г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3г. составило – 81,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42920" y="1071720"/>
            <a:ext cx="87152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Васильев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Пущин Виктор Викто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05 с. Васильевка ул. Советская дом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инск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-47346-5-66-67,8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i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n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71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 Васильев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Васильевского поселения Аннинского муниципального района в 2022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0" y="214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 Васильевского поселения за 202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8880" y="1071720"/>
          <a:ext cx="5381640" cy="1749240"/>
        </p:xfrm>
        <a:graphic>
          <a:graphicData uri="http://schemas.openxmlformats.org/drawingml/2006/table">
            <a:tbl>
              <a:tblPr/>
              <a:tblGrid>
                <a:gridCol w="504720"/>
                <a:gridCol w="1219320"/>
                <a:gridCol w="1218960"/>
                <a:gridCol w="1219320"/>
                <a:gridCol w="1219320"/>
              </a:tblGrid>
              <a:tr h="307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 73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 778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317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364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 414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 414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095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 095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363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317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118" name="Диаграмма 7" descr=""/>
          <p:cNvPicPr/>
          <p:nvPr/>
        </p:nvPicPr>
        <p:blipFill>
          <a:blip r:embed="rId2"/>
          <a:stretch/>
        </p:blipFill>
        <p:spPr>
          <a:xfrm>
            <a:off x="1639800" y="2992320"/>
            <a:ext cx="57610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42920" y="3571920"/>
          <a:ext cx="8858160" cy="3128760"/>
        </p:xfrm>
        <a:graphic>
          <a:graphicData uri="http://schemas.openxmlformats.org/drawingml/2006/table">
            <a:tbl>
              <a:tblPr/>
              <a:tblGrid>
                <a:gridCol w="3890880"/>
                <a:gridCol w="1655640"/>
                <a:gridCol w="1656000"/>
                <a:gridCol w="1655640"/>
              </a:tblGrid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3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3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0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1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0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2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6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6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7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7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7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77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214200" y="14292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Васильевского сель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oup 2" descr=""/>
          <p:cNvPicPr/>
          <p:nvPr/>
        </p:nvPicPr>
        <p:blipFill>
          <a:blip r:embed="rId2"/>
          <a:stretch/>
        </p:blipFill>
        <p:spPr>
          <a:xfrm>
            <a:off x="2054160" y="1420920"/>
            <a:ext cx="4979880" cy="491328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33"/>
          <p:cNvSpPr/>
          <p:nvPr/>
        </p:nvSpPr>
        <p:spPr>
          <a:xfrm>
            <a:off x="857160" y="5238720"/>
            <a:ext cx="1443240" cy="619200"/>
          </a:xfrm>
          <a:prstGeom prst="wedgeRoundRectCallout">
            <a:avLst>
              <a:gd name="adj1" fmla="val 156726"/>
              <a:gd name="adj2" fmla="val -65189"/>
              <a:gd name="adj3" fmla="val 16667"/>
            </a:avLst>
          </a:prstGeom>
          <a:noFill/>
          <a:ln w="19080">
            <a:solidFill>
              <a:srgbClr val="f692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34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58833"/>
              <a:gd name="adj2" fmla="val -42115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ая прямоугольная выноска 35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ая прямоугольная выноска 36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7786800" y="1143000"/>
            <a:ext cx="1071360" cy="337320"/>
          </a:xfrm>
          <a:prstGeom prst="rect">
            <a:avLst/>
          </a:prstGeom>
          <a:solidFill>
            <a:srgbClr val="dce6f2"/>
          </a:solidFill>
          <a:ln w="93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Пользователь Windows</cp:lastModifiedBy>
  <dcterms:modified xsi:type="dcterms:W3CDTF">2024-07-01T06:44:47Z</dcterms:modified>
  <cp:revision>87</cp:revision>
  <dc:subject/>
  <dc:title>Слайд 1</dc:title>
</cp:coreProperties>
</file>